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6DA6-6914-48F6-B5A6-573CDD908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lady of perpetual he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 InterMine, 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ell funded, well-run and popular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ur users a service by getting better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ncrease appeal, visibility of G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hood: I'll be working with TableEdit anyway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ll be churning through e-mails from mailing lists for next bit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F0D-76A4-4F03-8B99-80A9547E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E30-287B-470F-A285-E47A6837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0A0-6D86-4DAF-8AA9-9E77AB9B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993-4090-4358-8BF7-0C0D91C6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603-C636-49CD-BB51-DE5F0C79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975F-8011-4059-B93F-9B653286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C55-4F8D-416A-9DC8-6E1A5793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77E-FA07-4461-AB60-D2D03EC1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08A-437F-416A-9FDA-8602898F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0FE-3EB7-4F45-A4DC-18C5A4BB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A1A-6B31-441D-B457-3428A0B8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4CE4-DAB9-4AC6-A0A4-A5121026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3B1B-A891-4B65-B0B4-CB117E6F2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582948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73836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42120" y="2133720"/>
            <a:ext cx="3016080" cy="3733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67960" y="380880"/>
            <a:ext cx="383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2103480"/>
            <a:ext cx="44197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axy, InterMine, Bio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tighter integration with rest of G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- will integrate with GMOD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key to (non-sequence) 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Diversity Chado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it integrated, documented and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2009 Summer of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Logo Serv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 &amp;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Summe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Course in Euro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 at Plant and Animal Genom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ropod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l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prom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ive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ts, Reviews &amp;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ow offer to review grants that propose using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grant writers to include funding for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general project or specific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increase stability of G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I b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8160" y="3429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m I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 Gilbert is doing a review of my first year in August and Sept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ontact him if you any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800" y="1752480"/>
            <a:ext cx="37040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15 Pacific H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tional Evolutionary Synthesis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ements@nescent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lp@gmod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gmod.org/GMOD_Help_De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nescent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48520" y="4387680"/>
            <a:ext cx="18288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00200" y="3505320"/>
            <a:ext cx="7162920" cy="243828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2590920"/>
            <a:ext cx="7162920" cy="83808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838080"/>
            <a:ext cx="7162920" cy="167652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-7668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@ Arthropod Genomics Sympo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806600" y="14983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8174520" y="2812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78000" y="990720"/>
            <a:ext cx="4527720" cy="487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32040" y="838080"/>
            <a:ext cx="5654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rsday 7-9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Contributions to Genom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Elsik, Christopher Childers, Darren H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20920" y="1668600"/>
            <a:ext cx="6067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7:30-9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do Databases and Integration with GMO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in, Dave C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3080" y="2590920"/>
            <a:ext cx="579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11:25-11:45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ated arthropod genes and ways to fi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8021520" y="4423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67680" y="3505320"/>
            <a:ext cx="4730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5-6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ative annotation of Drosophilid dicistronic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62080" y="4041720"/>
            <a:ext cx="6340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urday 10-11:30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lete System For Community Genome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: Database Resources for Emerging Model Org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ive genomics and database construction for Lepidopt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ocated Arthropod genes, and ways to find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Base: A genome resource for arthropod vectors of human pathog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ectorBase Manual and Community Annotation Submission pip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terflyBase: A framework for comparative genomics in butterflies and mo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6019920"/>
            <a:ext cx="3429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Got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2240" y="5791320"/>
            <a:ext cx="1255680" cy="923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3960" y="762120"/>
            <a:ext cx="1340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Fle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tl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i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er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conius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Annot-L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'm planning on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I be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m I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/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ged every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it easy to tag pages, lookup pages by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s for new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ssary, GMOD and Databas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, Calendar, Rec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your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e Informatics, IGERT EvoDevo, Arthropod Genomics, Genetics of Behavior, IS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pidoptera and ArthropodBase; U Ore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 Workshop with Scott @ Arthropod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5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OD Summer School with Scott, Ed, B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students for 2 1/2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R, Phe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137160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666520" y="2286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@ ISMB &amp; BOSC 200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8222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http://gmod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1119240"/>
          <a:ext cx="9144000" cy="5745240"/>
        </p:xfrm>
        <a:graphic>
          <a:graphicData uri="http://schemas.openxmlformats.org/drawingml/2006/table">
            <a:tbl>
              <a:tblPr/>
              <a:tblGrid>
                <a:gridCol w="3809880"/>
                <a:gridCol w="457200"/>
                <a:gridCol w="4419720"/>
                <a:gridCol w="457200"/>
              </a:tblGrid>
              <a:tr h="284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ine - Open source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ehouse and Query Interfa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Smith, Fri 11:10-11: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gatis: A Web-based Bioinformati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 Management and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 Development  Syst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ua Orvis, Sat 9:30-9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: a Sequence Annotation Ed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, Sat 11:50-1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RACE - BioMart Developments and Fu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ed Haider, Sat 1:50-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4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e0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- Enabling Data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ed Haider, Sun 2:15-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ine - Open source Data Warehouse and Query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ard Smith, Mon 12:15-1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way Tools Software: Regulatory Networks and Recent Develop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er Karp, Mon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: Enabling Complex Compu-tational Analysis For Experimental Biolog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mes Taylor, Tue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GALAXY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on Nekrutenko, Tue 3:45-4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6a5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f7a6c"/>
                    </a:solidFill>
                  </a:tcPr>
                </a:tc>
              </a:tr>
              <a:tr h="289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enome Grid for Finding new Bug G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omplete System for Community Genome  Anno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OD: Managing genomic data from emerging model org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 for reproducible analyses of next-generation sequencing data, Anton Nekruten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genomic Analysis with Galaxy: Windshield Genomics and 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– Enabling Data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e99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6c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dimensional annotation of the Escherichia coli K-12 ge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wards Data Analysis of Genome Wide Influenza RNAi Sc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informatics to support the sequencing of Brassica rapa chromosomes A2 and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-variation among rates of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mu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 for database interoperability: a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he CASIMIR consort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8c1a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 rot="5400000">
            <a:off x="2583000" y="2369520"/>
            <a:ext cx="28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C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7480080" y="5244840"/>
            <a:ext cx="287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using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2627640" y="5174640"/>
            <a:ext cx="28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about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696080" y="54000"/>
            <a:ext cx="1371600" cy="98100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 rot="5400000">
            <a:off x="7657920" y="22478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B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m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 User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Table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has 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mponent lists users of tha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user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riven by data on each user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new users an idea of who is doing something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'll be in the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't possibly describe or maintain HOWTOs for all OS/software comb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rganization for including, encouraging and tagging user experience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already on the web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aintenance involved with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catalog as we try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doc re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Chado Cookbook / Bes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 gmod-schema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user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Browse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Browse Cookbo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Annotation Server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casts for sophisticated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, Apollo, C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wiki up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ear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k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3:41:01Z</dcterms:created>
  <dc:creator>GMOD / NESCent</dc:creator>
  <dc:description/>
  <dc:language>en-US</dc:language>
  <cp:lastModifiedBy>GMOD / NESCent</cp:lastModifiedBy>
  <dcterms:modified xsi:type="dcterms:W3CDTF">2008-07-16T17:14:30Z</dcterms:modified>
  <cp:revision>16</cp:revision>
  <dc:subject/>
  <dc:title>PowerPoint Presentation</dc:title>
</cp:coreProperties>
</file>